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E81-A7F8-4275-9961-26740D01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EE8-35D7-4562-AF14-44F672F7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38D-FE13-46F7-9C8F-330BD910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2A0-0D6F-48DF-A7CF-84F3773B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3F8F-3968-4E6E-B96C-D2532BF4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C715-004A-4C57-8C35-CED90C80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E85C-73B5-4084-8598-28D19FBC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DB60-5357-4B4E-BA7B-82F0AE03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F20F-6684-418F-BA7C-18E5B867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FD0D-D6CD-4B97-8048-0DF7F257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0D8A-5AFA-48E0-BA75-372DE8A7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12A-6A8B-415D-9D2E-2BD46B8F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80AB-071A-4532-83C4-A81D95AD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5304-FC6D-4099-9024-0CDA3EDB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8D7D-2DB4-490E-809E-54D3A9A9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BFF2-63F4-429B-8FC4-6E9A770A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BBFF-5713-4E41-8302-AE44914B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4FF-BEC7-42EC-81FA-AB741859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108-202C-483F-BE20-9FDB59F1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815-C2EC-4E16-9B4D-8F240CEF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CCE-D63C-4A6B-9E62-2D702E66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7FF-CA3A-4A70-A955-26A54628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7CB-879D-44CB-B8F2-5AF4BF84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C69-A16F-4BF6-B59E-8486DE82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ECCE-396C-4331-A5E8-FC69E7429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0" y="-12600"/>
            <a:ext cx="917100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557000"/>
            <a:ext cx="690876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9E80-EF7C-44E2-A910-C9AD6B91D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96360" y="1917360"/>
            <a:ext cx="792036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方正大标宋简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方正大标宋简体"/>
              </a:rPr>
              <a:t>纪念</a:t>
            </a:r>
            <a:r>
              <a:rPr b="1" lang="zh-CN" sz="2800" spc="-1" strike="noStrike">
                <a:solidFill>
                  <a:srgbClr val="000000"/>
                </a:solidFill>
                <a:latin typeface="Brush Script MT"/>
                <a:ea typeface="方正大标宋简体"/>
              </a:rPr>
              <a:t>5.1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方正大标宋简体"/>
              </a:rPr>
              <a:t>世界电信和信息社会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方正大标宋简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方正大标宋简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方正大标宋简体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方正大标宋简体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大标宋简体"/>
              </a:rPr>
              <a:t>报告人：中国信息通信研究院标准所王志勤所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3280" y="5950080"/>
            <a:ext cx="24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方正大标宋简体"/>
              </a:rPr>
              <a:t>山西省通信学会主办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方正大标宋简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852640"/>
            <a:ext cx="834696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0" blurRad="0" rotWithShape="0">
                    <a:srgbClr val="b2b2b2">
                      <a:alpha val="76000"/>
                    </a:srgbClr>
                  </a:outerShdw>
                </a:effectLst>
                <a:latin typeface="方正舒体"/>
              </a:rPr>
              <a:t>提倡</a:t>
            </a:r>
            <a:r>
              <a:rPr b="1" lang="en-US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0" blurRad="0" rotWithShape="0">
                    <a:srgbClr val="b2b2b2">
                      <a:alpha val="76000"/>
                    </a:srgbClr>
                  </a:outerShdw>
                </a:effectLst>
                <a:latin typeface="方正舒体"/>
              </a:rPr>
              <a:t>ICT</a:t>
            </a:r>
            <a:r>
              <a:rPr b="1" lang="zh-CN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0" blurRad="0" rotWithShape="0">
                    <a:srgbClr val="b2b2b2">
                      <a:alpha val="76000"/>
                    </a:srgbClr>
                  </a:outerShdw>
                </a:effectLst>
                <a:latin typeface="方正舒体"/>
              </a:rPr>
              <a:t>创业精神，扩大社会影响”主题报告会</a:t>
            </a:r>
            <a:endParaRPr b="1" lang="en-US" sz="2000" spc="-1" strike="noStrike">
              <a:ln w="0">
                <a:noFill/>
              </a:ln>
              <a:solidFill>
                <a:srgbClr val="ff0000"/>
              </a:solidFill>
              <a:effectLst>
                <a:outerShdw dist="38160" dir="0" blurRad="0" rotWithShape="0">
                  <a:srgbClr val="b2b2b2">
                    <a:alpha val="76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87" name=""/>
          <p:cNvSpPr/>
          <p:nvPr/>
        </p:nvSpPr>
        <p:spPr>
          <a:xfrm>
            <a:off x="6083280" y="55864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方正大标宋简体"/>
              </a:rPr>
              <a:t>山西省通信管理局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题报告会主讲人简介：</a:t>
            </a:r>
            <a:br>
              <a:rPr sz="2800"/>
            </a:br>
            <a:br>
              <a:rPr sz="2800"/>
            </a:b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志勤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任中国信息通信研究院标准所所长，中国通信标准化协会无线技术委员会主席，中国通信学会无线与移动技术委员会副主任。王志勤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GSM/GPRS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UMTS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技术研究、国际和国内标准方面有十分深入的研究，是我国第三代移动通信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IMT-Advanced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推进组的专家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IMT-2020(5G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推进组副组长兼秘书长，我国“新一代宽带无线移动通信网”重大专项专家组成员。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报告题目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革支撑创新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0T03:24:04Z</dcterms:created>
  <dc:creator>user</dc:creator>
  <dc:description/>
  <dc:language>en-US</dc:language>
  <cp:lastModifiedBy/>
  <dcterms:modified xsi:type="dcterms:W3CDTF">2016-05-12T07:50:1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98</vt:lpwstr>
  </property>
</Properties>
</file>