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310-FD58-48AA-82EF-2FB5DD2D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366-E345-4A90-BA7C-4E89A87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DF0-0A0B-455F-A7EA-7F65B6B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A0D-5E54-48FE-B941-21B2DE0F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755D-468F-4915-90D1-F4DAEFAD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B7E-18BD-4C7E-B99D-30B45B0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A27B-BD75-488B-B0E0-91A5A921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514E-8C37-4CF9-845E-A856B218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57DC-79D3-4F0E-80EC-28F2B4CA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7907-8FB7-42F2-AAC1-AC73AB0C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E59E-8626-403E-BADE-505E7F19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E7B-7F35-4A5A-9905-8E27F1DB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D500-F8F7-4BDD-A7ED-A2489981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96E-DCE4-47E0-B701-01A2E5E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C9F-5E38-4E4C-BF17-BFDA8AF0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0FF0-CD7B-4F8F-8FDA-6C4A63FB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63F6-2244-4C92-AD5B-A8FAA0D5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165-3946-4138-890D-2D8A3D6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EB0-954A-42FE-986F-49521A8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D35-26EB-43FD-B314-0B4F84D6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E93-1A75-43B4-ABFC-7139308D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A3D-9CF5-46B6-AD25-CDE2CDA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B85-641D-4C10-B9E9-B978CE8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376-20A1-41CE-9F39-DD21272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E891-C798-4BE6-A08B-0CC65F6E2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0" y="-12600"/>
            <a:ext cx="91710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000"/>
            <a:ext cx="690876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FDB-4DBC-4D69-AD61-673BB7102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6360" y="1917360"/>
            <a:ext cx="79203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纪念</a:t>
            </a:r>
            <a:r>
              <a:rPr b="1" lang="zh-CN" sz="2800" spc="-1" strike="noStrike">
                <a:solidFill>
                  <a:srgbClr val="000000"/>
                </a:solidFill>
                <a:latin typeface="Brush Script MT"/>
                <a:ea typeface="方正大标宋简体"/>
              </a:rPr>
              <a:t>5.17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方正大标宋简体"/>
              </a:rPr>
              <a:t>世界电信和信息社会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仿宋"/>
                <a:ea typeface="方正大标宋简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大标宋简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大标宋简体"/>
              </a:rPr>
              <a:t>报告人：中国信息通信研究院标准所王志勤所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83280" y="5950080"/>
            <a:ext cx="24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方正大标宋简体"/>
              </a:rPr>
              <a:t>山西省通信学会主办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  <a:ea typeface="方正大标宋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852640"/>
            <a:ext cx="8346960" cy="9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提倡</a:t>
            </a:r>
            <a:r>
              <a:rPr b="1" lang="en-US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ICT</a:t>
            </a:r>
            <a:r>
              <a:rPr b="1" lang="zh-CN" sz="2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0" blurRad="0" rotWithShape="0">
                    <a:srgbClr val="b2b2b2">
                      <a:alpha val="76000"/>
                    </a:srgbClr>
                  </a:outerShdw>
                </a:effectLst>
                <a:latin typeface="方正舒体"/>
              </a:rPr>
              <a:t>创业精神，扩大社会影响”主题报告会</a:t>
            </a:r>
            <a:endParaRPr b="1" lang="en-US" sz="2000" spc="-1" strike="noStrike">
              <a:ln w="0">
                <a:noFill/>
              </a:ln>
              <a:solidFill>
                <a:srgbClr val="ff0000"/>
              </a:solidFill>
              <a:effectLst>
                <a:outerShdw dist="38160" dir="0" blurRad="0" rotWithShape="0">
                  <a:srgbClr val="b2b2b2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87" name=""/>
          <p:cNvSpPr/>
          <p:nvPr/>
        </p:nvSpPr>
        <p:spPr>
          <a:xfrm>
            <a:off x="6083280" y="55864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方正大标宋简体"/>
              </a:rPr>
              <a:t>山西省通信管理局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题报告会主讲人简介：</a:t>
            </a:r>
            <a:br>
              <a:rPr sz="2800"/>
            </a:br>
            <a:br>
              <a:rPr sz="2800"/>
            </a:b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志勤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任中国信息通信研究院标准所所长，中国通信标准化协会无线技术委员会主席，中国通信学会无线与移动技术委员会副主任。王志勤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GSM/GPRS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UMTS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技术研究、国际和国内标准方面有十分深入的研究，是我国第三代移动通信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MT-Advanced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推进组的专家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MT-2020(5G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推进组副组长兼秘书长，我国“新一代宽带无线移动通信网”重大专项专家组成员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报告题目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变革支撑创新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0T03:24:04Z</dcterms:created>
  <dc:creator>user</dc:creator>
  <dc:description/>
  <dc:language>en-US</dc:language>
  <cp:lastModifiedBy/>
  <dcterms:modified xsi:type="dcterms:W3CDTF">2016-05-12T07:50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8</vt:lpwstr>
  </property>
</Properties>
</file>